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DB198-744A-475B-ACA4-A7FE0A2D6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7884F-A4F1-46F5-9026-11036A78D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C41FE-A474-4BC8-8489-5B55EAF2E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6B454-5821-4987-930C-33EC7FF3E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B9BA2-8E44-4A9A-A4DA-BDCAC0FBC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72D5A-B97E-46FE-B209-8BAC0DFD1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76420-CE93-4C95-BB91-2C7F04BCB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BDA77-AC56-41E7-9F64-4047D1A24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8E16E-BF0A-40C3-B9A9-7C79FFF7A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36FCF-EEBB-43CC-967C-846F46057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758CE-5381-487F-957A-43EED662B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23F39-9064-4F7E-9D0D-E1B005643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F8DF7-4B09-440B-9A37-E7960AA33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98415-3565-4C0D-AEA2-39B494CDC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06CB0-0241-427A-8408-987F88E55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B95FE-4BC0-456B-A4F3-BC86F3D78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4953C-D6CC-4509-AB33-0BC000E51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40AAA-7D1F-43A9-9F7D-8003A9A5B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2DB42-BE77-41C7-9AA7-14AF25F10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42F1B-B1B3-4C03-A8B7-B2B5CB9BE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547A5-B839-461A-8964-55AB43026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6665F-FB61-4755-82D7-C124953FD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8676C-C9AF-40FF-B326-001467C6A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F6152-BF10-4699-9380-5CB3AC065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0/19/20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ProEnergy Interna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00375-853E-403B-9111-B4523363B88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DERWICK BARBADOS.JPG"/>
          <p:cNvPicPr/>
          <p:nvPr/>
        </p:nvPicPr>
        <p:blipFill>
          <a:blip r:embed="rId2"/>
          <a:stretch/>
        </p:blipFill>
        <p:spPr>
          <a:xfrm>
            <a:off x="457200" y="304920"/>
            <a:ext cx="1916280" cy="9316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0/19/20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ProEnergy Interna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E68A2-4757-40FB-AD44-28AFC8AE56A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acks Report LM6000</a:t>
            </a:r>
            <a:br>
              <a:rPr sz="36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523520"/>
            <a:ext cx="5410080" cy="307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1000"/>
          </a:bodyPr>
          <a:p>
            <a:pPr marL="209160" indent="-20916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GENERAL NOTE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09160" indent="-20916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1. DESIGN CRITERIA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09160" indent="-20916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ACOUSTIC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09160" indent="-20916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- Exhaust System: 85 DBA - 3FT FROM EQUIPMENT, 5FT ABOVE GRAD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09160" indent="-20916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65 DBA - 400 FEET FOR ONE UNIT IN OPERATION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09160" indent="-20916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MECHANICAL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09160" indent="-20916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- Exhaust System: EXHAUST INTERNAL DESIGN PRESSU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09160" indent="-20916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DESIGN PRESSURE DUCT +18"/-2" W.C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09160" indent="-20916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DESIGN PRESSURE STACK +12"/-2" W.C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09160" indent="-20916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OPERATING PRESSURE ALL +8"/-2" W.C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09160" indent="-20916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STRUCTURAL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09160" indent="-20916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- SEE DRAWING A-9656-001 SHE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09160" indent="-20916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FLOW CONDITIONS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09160" indent="-20916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- MAX FLOW RATE 269 LBM/S AT 848°F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09160" indent="-20916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- MAX EXHAUST TEMP - 1,000°F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09160" indent="-20916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2. COMPONENTS / CONSTRUCTION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09160" indent="-20916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EXPANSION JOINT 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09160" indent="-20916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- 304 STAINLESS STEEL HOT-SIDE FRAME, BACKING BARS AND FLOW LINER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09160" indent="-20916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- CHEMFAB 1000BF BELT WITH FIBER GLASS INSULATION AND WIRE-FLEXTRA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09160" indent="-20916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BACKING CLOTH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09160" indent="-20916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- CARBON STEEL COLD SIDE FrAME PAINTED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09160" indent="-20916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STACK BASE, ELBOW &amp; STACK BREECHING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09160" indent="-20916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- 3/8" THICK ASTM A36 CARBON STEEL CASIN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09160" indent="-20916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- 4" DIA. 304L SS DRAIN PIPE C/W CAP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09160" indent="-20916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- 6” THICK 8 LB/CU. FT. DENSITY CERAMIC FIBRE LINING INSULATION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09160" indent="-20916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- 12 GA ASTM 240 TYPE 409 STAINLESS STEEL LINING SHEET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09160" indent="-20916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- OVERLAP OF LINING SHEETS IN DIRECTION OF GAS FLOW @ HORIZONTAL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09160" indent="-20916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DUCTS AND IN DIRECTION OF RAIN FLOW @ VERTICAL STAC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09160" indent="-20916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- 24" x 24" CLEAR OPENING ACCESS DOOR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09160" indent="-20916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3" descr="DERWICK BARBADOS.JPG"/>
          <p:cNvPicPr/>
          <p:nvPr/>
        </p:nvPicPr>
        <p:blipFill>
          <a:blip r:embed="rId1"/>
          <a:stretch/>
        </p:blipFill>
        <p:spPr>
          <a:xfrm>
            <a:off x="457200" y="304920"/>
            <a:ext cx="1916280" cy="931680"/>
          </a:xfrm>
          <a:prstGeom prst="rect">
            <a:avLst/>
          </a:prstGeom>
          <a:ln w="0">
            <a:noFill/>
          </a:ln>
        </p:spPr>
      </p:pic>
      <p:sp>
        <p:nvSpPr>
          <p:cNvPr id="86" name="Date Placeholder 7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10/19/20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8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roEnergy Internation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acks Report LM60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SILENCER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- 1/4" THICK ASTM A36 CARBON STEEL CASIN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- 2” THICK 8 LB/CU. FT. DENSITY CERAMIC FIBRE LINING INSULATION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100" spc="-1" strike="noStrike">
                <a:solidFill>
                  <a:srgbClr val="000000"/>
                </a:solidFill>
                <a:latin typeface="Calibri"/>
              </a:rPr>
              <a:t>- 26 GA 409SS SEPTUM LINER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- 4” THICK 8 LB/CU. FT. DENSITY BASALT WOOL LINING INSULATION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- GLASS SILK CLOTH AND 304 SS MESH RETAINER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- 12 GA ASTM A240 TYPE 409 STAINLESS STEEL LINING SHEET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(PERFORATED AT BAFFLE LOCATION ONLY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SILENCER SPLITTER CONSTRUCTION 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- 12 GA ASTM A240 TYPE 409 STAINLESS STEEL SILENCING SPLITTER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PERFORATED FACING SHEET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- 12 GA ASTM A240 TYPE 409 STAINLESS STEEL SILENCING SPLITTER FRAME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- BASALT WOOL WRAPPED WITH GLASS SILK CLOTH AND COVERED WITH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304 STAINLESS STEEL MESH ON GAS FACE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PERSONNEL PROTECTION SCREEN 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- 1 1/2-13F EXPANDED METAL, GALVANIZED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- 3/8"-16 UNC ZN PL STAND-OFFS (8 1/2" LG APPROX.) FIELD WELDED TO CASIN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(24" SQ. CENTERS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HARDWARE 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- FLANGE CONNECTIONS: 3/4" DIA. ASTM A325 HOT DIP GALVANIZED BOLT SET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C/W TWO WASHER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3. FINISH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EXTERNAL ONLY SURFACES OF SYSTEM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- CLEAN TO SSPC SP10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- ONE COAT DIMETCOTE 9 INORGANIC ZINC PRIMER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ONE UNIT REQUIRED FOR P.O.# PS470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ONE UNIT REQUIRED FOR P.O.# PS470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ONE UNIT REQUIRED FOR P.O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.#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10/19/20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roEnergy Internation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acks Report LM60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2" descr="C:\Documents and Settings\jmavares\My Documents\My Pictures\Sedalia\Port Folio[sedalia paint shop 010.jpg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  <p:sp>
        <p:nvSpPr>
          <p:cNvPr id="94" name="Date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10/19/20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roEnergy Internation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acks Report LM60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Content Placeholder 3" descr="LM6000 Exhaust Stack 001.jpg"/>
          <p:cNvPicPr/>
          <p:nvPr/>
        </p:nvPicPr>
        <p:blipFill>
          <a:blip r:embed="rId1"/>
          <a:stretch/>
        </p:blipFill>
        <p:spPr>
          <a:xfrm>
            <a:off x="380880" y="2362320"/>
            <a:ext cx="3861000" cy="28954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4" descr="LM6000 Exhaust Stack 002.jpg"/>
          <p:cNvPicPr/>
          <p:nvPr/>
        </p:nvPicPr>
        <p:blipFill>
          <a:blip r:embed="rId2"/>
          <a:stretch/>
        </p:blipFill>
        <p:spPr>
          <a:xfrm>
            <a:off x="4343400" y="2362320"/>
            <a:ext cx="3860640" cy="2895480"/>
          </a:xfrm>
          <a:prstGeom prst="rect">
            <a:avLst/>
          </a:prstGeom>
          <a:ln w="0">
            <a:noFill/>
          </a:ln>
        </p:spPr>
      </p:pic>
      <p:sp>
        <p:nvSpPr>
          <p:cNvPr id="99" name="Date Placeholder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10/19/20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Footer Placeholder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roEnergy Internation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acks Report LM60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Content Placeholder 3" descr="LM6000 Exhaust Stack 003.jpg"/>
          <p:cNvPicPr/>
          <p:nvPr/>
        </p:nvPicPr>
        <p:blipFill>
          <a:blip r:embed="rId1"/>
          <a:stretch/>
        </p:blipFill>
        <p:spPr>
          <a:xfrm>
            <a:off x="5029200" y="1752480"/>
            <a:ext cx="3149640" cy="23623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4" descr="LM6000 Exhaust Stack 004.jpg"/>
          <p:cNvPicPr/>
          <p:nvPr/>
        </p:nvPicPr>
        <p:blipFill>
          <a:blip r:embed="rId2"/>
          <a:stretch/>
        </p:blipFill>
        <p:spPr>
          <a:xfrm>
            <a:off x="685800" y="2514600"/>
            <a:ext cx="3759120" cy="2819520"/>
          </a:xfrm>
          <a:prstGeom prst="rect">
            <a:avLst/>
          </a:prstGeom>
          <a:ln w="0">
            <a:noFill/>
          </a:ln>
        </p:spPr>
      </p:pic>
      <p:pic>
        <p:nvPicPr>
          <p:cNvPr id="104" name="Content Placeholder 3" descr="LM6000 Exhaust Stack 005.jpg"/>
          <p:cNvPicPr/>
          <p:nvPr/>
        </p:nvPicPr>
        <p:blipFill>
          <a:blip r:embed="rId3"/>
          <a:stretch/>
        </p:blipFill>
        <p:spPr>
          <a:xfrm>
            <a:off x="5029200" y="4267080"/>
            <a:ext cx="3276720" cy="2286000"/>
          </a:xfrm>
          <a:prstGeom prst="rect">
            <a:avLst/>
          </a:prstGeom>
          <a:ln w="0">
            <a:noFill/>
          </a:ln>
        </p:spPr>
      </p:pic>
      <p:sp>
        <p:nvSpPr>
          <p:cNvPr id="105" name="Date Placeholder 6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10/19/20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Footer Placeholder 7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roEnergy Internation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2T21:14:32Z</dcterms:created>
  <dc:creator>Joaquin Mavares</dc:creator>
  <dc:description/>
  <dc:language>en-US</dc:language>
  <cp:lastModifiedBy>Joaquin Mavares</cp:lastModifiedBy>
  <dcterms:modified xsi:type="dcterms:W3CDTF">2010-11-02T21:53:15Z</dcterms:modified>
  <cp:revision>5</cp:revision>
  <dc:subject/>
  <dc:title>Slide 1</dc:title>
</cp:coreProperties>
</file>